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860A-22D3-435A-9FD6-F7BC859BC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B1EC-403A-45F7-AA47-FF4772812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766-0188-43B9-AEA7-2A96DBEB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B9D-08E5-4BAF-B06C-2FDB134E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711-CCF2-4188-A7E7-1A1A14D2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EAB-D1B9-4AFE-A523-0FD343CD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70E-F1A5-4993-967C-82AEAD1D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443-6C21-4A1F-964B-4C2FA85D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91F-9E88-4B20-A2E8-B5419951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407-F448-4234-994C-8B2DABF9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B49-9449-4BBF-8B3A-5CC6E538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BA1-9782-43B7-BBF5-3D95BD5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098-7FBD-43E2-9273-46BC456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623-5E04-4D1F-AC17-CB873CAE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BF3D-EB8F-4473-8EC3-3458B88DB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7080" y="2174760"/>
            <a:ext cx="867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Реабилитация и абилитация пациентов с двигательными нарушениями, обусловленными патологией нервно-мышечной и опорно-двигательной сист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4723920"/>
            <a:ext cx="8352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м.н. Н.А Супон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ь отделения нейрореабили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физиотерап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Изображение 11" descr="1.png"/>
          <p:cNvPicPr/>
          <p:nvPr/>
        </p:nvPicPr>
        <p:blipFill>
          <a:blip r:embed="rId1"/>
          <a:stretch/>
        </p:blipFill>
        <p:spPr>
          <a:xfrm>
            <a:off x="7812000" y="115920"/>
            <a:ext cx="1258920" cy="1276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-181080" y="0"/>
            <a:ext cx="8352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ГБУ «Научный центр неврологии» РАМ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остояние реабилитационной службы неврологическим бо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осудистые цент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для больных с инсуль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Реабилитационные цент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«Преодоление», «Центр медико-социальной реабилитации инвалидов») = для больных с инсультом, ДЦП, черепно-мозговыми и спинальными трав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Санато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порно-двигательного и периферического неврологического профиля = для независимых па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20718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мбулаторные служ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ликлиники, КДЦ, дневные стационары) = для независимых или частично зависимых пациентов (т.е.например для больных после травмы нерва, сплетения),   но без нарушений глотания и дыхания, обездвиж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ованные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ервно-мышечные цент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ованные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ервно-мышечные отде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КБ № 2, г.С-Петербург (зав.-Т.Р.Стучевская, 30 коек), 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 педиат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ела обстоят лучше (Институт педиатрии и детской хирургии, Научный центр здоровья де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остояние реабилитационной службы неврологическим боль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Что необходимо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936720"/>
            <a:ext cx="849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знание пробл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сутствия адекватной помощи больным с нервно-мышечной патологией, в том числе реабилитационной её составляющей и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обходимости её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. поддержка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офессиональных сообществ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лица в гос.структурах отвечающие за это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рганизационные мер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зданию службы помощи нервно-мышечным больным: нервно-мышечные центры/отделения стационарные и поликлинические/дополнительная спец.подготовка амбулаторных ка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Что необходимо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936720"/>
            <a:ext cx="849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тверждение МЭ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этой патологии, включая все возраста и стадии заболевания – совместно с профессиона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ие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тандар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азания помощи, в т.ч.реабилитационной, для данной категории больных – для всех возрастов и стадий заболе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бразовательные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рамках повышения квалификации) для среднего мед.персонала, врачей-специалистов разного профиля, сотрудников реабилитационных служб = подготовка ка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Что необходимо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ос.воспи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щества, в частности -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лонтёр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 части культурного развития молодёжи и населения в целом, как способа получения удовлетворения собой, утверждения собственной значимости и поле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осознания того, что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люди с ограниченными возможностями – нужны и полезны обществ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Что необходимо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807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.поддержка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ациентских организ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.поддержка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лаготворительных фон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МИ – передачи, конкурсы с участием этой категории больных)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ляция в СМИ зарубежных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ильмов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«В душе я танцую», «Масло Лоренцо», «Крайняя мера», «Один плюс один»), инициация создания отечественных фильм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.поддержка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аллиатив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Модель.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ndfund.ru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846" t="15750" r="0" b="12600"/>
          <a:stretch/>
        </p:blipFill>
        <p:spPr>
          <a:xfrm>
            <a:off x="0" y="1052640"/>
            <a:ext cx="9685440" cy="489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844640"/>
            <a:ext cx="914400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Волонтёр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а врачей НЦН РАМ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врологи, дисфаголог и нутрициоло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льмонолог, психолог, специалисты паллиатив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щи и среднего мед.персо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Религиоз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держка меди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циентов, родстве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лаготворите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многих нервно-мышечных заболеваниях (нейродегенеративных, наследственных)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интеллект сохран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щественная доля пациентов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могут длительно сохранять способность передвигать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себя обслуживать,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работа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не являются 100% бременем для государ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амотно организованная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помощ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включая все виды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реабилитаци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000" spc="-1" strike="noStrike">
                <a:solidFill>
                  <a:srgbClr val="990000"/>
                </a:solidFill>
                <a:latin typeface="Arial"/>
              </a:rPr>
              <a:t>позволяе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продли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охранный функциональный статус, </a:t>
            </a: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сохрани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человека для общества и государ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2600" r="0" b="0"/>
          <a:stretch/>
        </p:blipFill>
        <p:spPr>
          <a:xfrm>
            <a:off x="0" y="0"/>
            <a:ext cx="9753480" cy="4994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88000" y="0"/>
            <a:ext cx="3241440" cy="9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log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12600" r="0" b="0"/>
          <a:stretch/>
        </p:blipFill>
        <p:spPr>
          <a:xfrm>
            <a:off x="-108000" y="1484280"/>
            <a:ext cx="9753480" cy="499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206064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omuscula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rcRect l="0" t="12600" r="0" b="0"/>
          <a:stretch/>
        </p:blipFill>
        <p:spPr>
          <a:xfrm>
            <a:off x="0" y="3645000"/>
            <a:ext cx="9753480" cy="499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8000" y="393228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ndfun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ФГБУ «НЦН» РАМН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eurology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ение физиотерапии                    (позже преобразовано в отделение нейрореабилитации) основано 60 лет назад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В структур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тделение нейрогенетики, отделение нейроинфекции, миастеническая груп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динственный в стране специализированный центр по лечению </a:t>
            </a: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острых и хронических аутоиммунных нервно-мышечных заболев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Болезни нервно-мышечной, периферической нервн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5440" y="1773360"/>
            <a:ext cx="4751280" cy="36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тоимму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ек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вма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кс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бол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йродегенерати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1844640"/>
            <a:ext cx="35290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3645000"/>
            <a:ext cx="36352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ессиру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805360"/>
            <a:ext cx="4248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аб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5080" y="5805360"/>
            <a:ext cx="4248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излечи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урабельные нервно-мышечные заболе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74420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ндром Гийена-Бар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роническая воспалительная демиелинизирующая полиневропатия и схожие с ней заболе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астения и миастенические синдро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езни накоп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рфирия (неврологические проявления – полинейропатия - у 90% боль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Некурабельные прогрессирующие нервно-мышечные заболе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ледственные моторно-сенсорные невропат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одистрофии, миопа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зни двигательного нейрона (спинальные амиотрофии, БА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генитальная ми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зни накоп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Общий сценарий развития нервно-мышечных болезн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280" y="1484280"/>
            <a:ext cx="428472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конеч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ушения пох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коорди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198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2276640"/>
            <a:ext cx="302436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валидизац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дви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3213000"/>
            <a:ext cx="428472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ология опор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гательного ап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3573360"/>
            <a:ext cx="976320" cy="546120"/>
          </a:xfrm>
          <a:prstGeom prst="rightArrow">
            <a:avLst>
              <a:gd name="adj1" fmla="val 50000"/>
              <a:gd name="adj2" fmla="val 44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4581360"/>
            <a:ext cx="302436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р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спи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сфи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280" y="5013360"/>
            <a:ext cx="4284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от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546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86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Роль службы реабилитации при нервно-мышечных болезн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Arial"/>
              </a:rPr>
              <a:t>Абилитац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обучение/компенсация навыков, никогда не наблюдавшихся у пациента. Актуально для педиатр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2600" spc="-1" strike="noStrike">
                <a:solidFill>
                  <a:srgbClr val="990000"/>
                </a:solidFill>
                <a:latin typeface="Arial"/>
              </a:rPr>
              <a:t>курабельны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болеваний – коррекция, восстановительные мероприятия, компенсация, адаптация социальная и быт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риобретённых и наследственных </a:t>
            </a:r>
            <a:r>
              <a:rPr b="0" lang="ru-RU" sz="2600" spc="-1" strike="noStrike">
                <a:solidFill>
                  <a:srgbClr val="990000"/>
                </a:solidFill>
                <a:latin typeface="Arial"/>
              </a:rPr>
              <a:t>некурабельны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 коррекция, компенсация, адаптация социальная и бытовая, мониторин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пецифика реабилитации нервно-мышечных заболе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иторинг, коррекция, компен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х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тритивного стат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484280"/>
            <a:ext cx="5616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 специалис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ение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временная корр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льтидисциплина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ированная ком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6920" y="4151160"/>
            <a:ext cx="6553080" cy="244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ключевых показа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екретированные с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ультативн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ответствующая техническая б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иагностики и корр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ример: функция дых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Мониторин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иническая оценка, газы крови, функция внешнего дыхания с построением номограмм, мониторинг и профилактика инфекционных ослож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Коррек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пециальная дыхательная гимнастика ––– неинвазивная вентиляция лёг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Уход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санация, трахеос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960" y="932040"/>
            <a:ext cx="41547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вый анализ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ро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к.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141720"/>
            <a:ext cx="6912000" cy="32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удительные спиро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к аппаратуры НВ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онал (невролог, пульмоноло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билито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ход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ая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2276640"/>
            <a:ext cx="6264360" cy="21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ость ока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дельных видов пом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ому (мобильные брига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23:50:39Z</dcterms:created>
  <dc:creator>НАТАША</dc:creator>
  <dc:description/>
  <dc:language>en-US</dc:language>
  <cp:lastModifiedBy>НАТАША</cp:lastModifiedBy>
  <dcterms:modified xsi:type="dcterms:W3CDTF">2014-10-20T03:18:30Z</dcterms:modified>
  <cp:revision>39</cp:revision>
  <dc:subject/>
  <dc:title>Реабилитация и абилитация пациентов с двигательными нарушениями, обусловленными патологией нервно-мышечной и опорно-двигательной системы </dc:title>
</cp:coreProperties>
</file>