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E2C-9851-4096-A389-5278DD1F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92F-7B40-47A3-8E9A-BE775FF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6E2D0-3E08-47EE-862E-1679E320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1BA9A-B025-4927-BFCE-64E5BE3D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7CAF0-8444-4FBD-98E7-ED03C7FD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6B742-9B93-4789-A5B5-726108F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1498-6844-4EB8-8151-F1D7234B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68D69-2EA4-4DA9-A3B0-2959040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D9367-9B42-48C8-8E58-EEBCF11B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5CD19-35DE-4A5E-B85F-8241677D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6E092-8CD5-4D75-B99E-35FC76C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EDAEE-3BA1-4D4D-8BE3-3B923562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46D-236C-4012-A1ED-E34BF66D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56FE5-984D-42C1-BA8F-DD9C799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4CA0-E5C0-4B71-9A72-3250B6ED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C9E7E-89C0-45F9-A1D1-372C9D0C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C676D-112A-46B2-8663-69EA1757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D6B5D-951F-4F33-9AFA-63E6E5E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4087E-7573-43B7-9148-5203971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882DF-6D58-45D0-9F16-176D92B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59648-82D2-4E0C-AB7A-8A141F2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4C1C4-DFC8-4826-8ECC-C84F23C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6830-09BF-475B-9617-3114EF1A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94E-D4D6-4C32-8CE1-BB901A0A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F1CF-46B2-4E54-A6FF-F900D0F3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3E05E-6A80-4A3E-978D-3606FBFC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D4FDD-8BD3-41C5-BF05-6FCB946E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3059-97CA-42CC-931A-FFF37112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1BF6-DC6A-4336-8462-F583994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BABA-3F80-4026-9E96-78C9B92B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2DBB-B587-4575-A239-EE3BF73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7B091-3EE1-45AE-970E-4F00E98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FE5A4-BB31-4038-85B4-D74A21F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10124-429A-4C59-9576-CCF3279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5728-94BD-4FFF-9E3C-ED11ADB3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D698F-FC2E-4031-97A4-01A95A04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C8330-F833-4225-AC46-CA3EB1AF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95C1-371F-45DD-947F-CBBFB7F8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4D6FA-A646-432B-B932-B2864972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6C380-0B90-4415-82F1-8A47B99E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19148-628F-4F20-A0C8-34AC96B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FA70D-DD3B-433A-B964-D458D7A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9E086-3637-4962-B392-90A0BB6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078B0-3130-410D-A612-F4167C76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313DF-AB60-4233-BB2C-CC7898B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E70D-60D3-47DA-A3D1-DE68B289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81AC8-ED90-4C00-A542-FA1062C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50D5B-72C6-44D1-AE26-8481564B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E20C8-432D-4AA6-8145-58F3C576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4841D-9978-4A5D-B5DF-EFE15DD3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A3586-524B-427C-AFBE-09A215B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33B-31FE-4FF6-9423-984B4B83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E14-9F02-4101-9AD6-49BAFDD7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322-5167-4B67-A802-38C06D49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FA5D-8C33-4525-80CE-1617D6E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9C97-C16E-474A-A9B7-C2B01BB7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8BA-AD14-4D7A-B5A3-E781BAD0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6810-D59D-4FF6-9D07-E3C76C1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471-8FC8-476D-9F4C-993EDDE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0A82-0C82-4990-AFA4-D6FFBA30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173-EDF2-46D0-8321-CA81ECD6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4C0-4A8E-497A-AE3D-E477E820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D2F3-12DB-453E-937D-D769190E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6C59-22EB-40D4-8965-C6DB324C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0EAF-2857-436E-8FD6-4B897C3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2988-D5A3-4019-8684-9B4092A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F884-3C42-4827-B459-E0EEB84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8D7-735A-449C-A16F-7FE238DC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3B49-0596-498C-B4CF-014D41B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9F98-CBAB-4278-B6A6-45A39AA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1ADA-9E3B-4BCD-9160-528FE8E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890E-5657-4C9B-98D7-C660107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AC5C-A0CC-4B5A-A87C-7EDA078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69CE-3381-4E74-A21D-BD0CC5C5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328E-92CD-408B-89C3-38507DCE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81B0-1633-4C1D-B31D-2FBA5EBA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4851-F719-4D29-97F4-41A5784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449B-133F-47A1-9AD5-F03AC89E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E28-5EDC-472B-A589-8130332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432B3-D517-4D93-BD7D-A7FF5EBE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7923-E79F-4E30-9D73-CBF5342F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77F4-F3DA-421C-B424-0CDDCE21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9955-2690-4A67-8254-7DD87C8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1FB7-EAC0-4C68-A822-2CCCB15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3D40-6487-46AB-9BAC-351CC916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E71A-20C6-4BF9-B5B1-A8E8ABA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81A69-D700-487B-8548-BCEE7F6D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F27C-9D43-42F5-92FF-FF0EB826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5251-0C7A-4401-85D0-0944B116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0C1-781D-4F7C-A76D-950CE776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B277-FE24-4493-B826-EB6B37D0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4BAC-BD37-40B6-9D3B-4A00E649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749ED-3D7E-48F9-AF41-C6784DE6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5AF7-7B99-4BF0-AE95-572C9C5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213F-5AD5-4A14-ACE8-95C04D7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8BD8-B852-4A37-AC9D-01C103E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EDFA-A27A-490B-826F-B9BB4EA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C51A-8EAF-4753-B61A-0B8F112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5BA5-467C-4BDB-AD24-81F516B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6637A-66B9-42C8-AD64-21262839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2C3-C38F-457C-BA4F-CC2B40F7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419D-9FE2-4E83-A469-3C0A30C5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0EB8-FE94-41D3-BC4C-ABB2EB0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C628-9CD3-4454-8619-D5198A93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167C-E555-4726-9D0C-C06E7A3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8B34-183C-402C-BBE9-CF4FA1D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0EEC-028E-4530-BCC5-A3D833D7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C8B5-C9DF-4AFD-857D-7D445044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FA0D-DFDA-46E8-A65F-CA42F68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9BFA-AA1B-41AC-815B-471A618E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7B14-B748-4D8B-8319-8DE42B5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D8F-B640-40F9-B614-2EA2F90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6F469-4C84-46BB-A0E3-E2BDD10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231F-DD98-45B6-9976-8F358322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EAFB1-E231-4EA0-A44B-030A340A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3E2E-9C2E-4FAC-8B0F-175C225F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7347B-94BB-484E-83D9-94B1F5B2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C88D1-B618-4E18-A101-81EB9BE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5BD12-4259-41B0-BFDD-BA6219A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C4A37-6CB0-48FC-A999-1E81CEF8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188A-0AB3-48EA-9C36-CF770E9A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D770-4FFE-40EB-B76E-C6197DF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808-121C-46A1-87C2-27A17ED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2BE25-70CC-4833-B93F-2F064C2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84FE-D31F-435D-A8B3-89DD647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E614-D4DA-4744-BD6B-28495225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7385-68A3-4E31-831D-D2470045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F566-CEB6-4837-9ED9-50F69B37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33578-53F0-47EF-BE3F-378130AB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50DBE-AD35-4602-8C25-A7074E38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F8172-17AC-4129-B0CC-D352C4E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D9B0-13BB-49BB-BF1F-1052290C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9B81-236A-426D-BD6D-F2430BBF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758-AC16-49F5-9970-31E2C49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F640-2178-407B-B661-7E296D3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917DE-F9F6-4429-A757-2BE891C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BA87-7E98-451C-8D11-E755D3E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043E-2AE0-45F4-940A-381C4488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D48C7-3C26-4295-8463-F79081C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6312-D892-4412-AA9F-9CB32159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4B4B-C960-49FF-B4E1-49BD439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D432C-FCA8-4A71-B833-3E4ECF7F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8135B-CA4B-4BB1-A9C4-4D6EE2A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DD9E-AD56-4064-91A4-7A5F7C5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c0504d"/>
              </a:gs>
              <a:gs pos="100000">
                <a:srgbClr val="a9464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c050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a34441"/>
                  </a:gs>
                  <a:gs pos="100000">
                    <a:srgbClr val="c0504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a94644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af4946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3444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f49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9d42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a946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c45a57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25553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54b48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b54b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ba4d4b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1f497d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497d"/>
                    </a:gs>
                    <a:gs pos="100000">
                      <a:srgbClr val="c050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504d"/>
                    </a:gs>
                    <a:gs pos="100000">
                      <a:srgbClr val="1f49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1E9-3431-43BE-9128-D870900E358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DED8-7258-434A-ADF6-56F38D493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FDF2-C10D-4C90-AD08-B060C1DEE19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E436-35FF-48B5-8D5E-3A52D2503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DFD-7A52-4AB5-9B8C-0AA57D7A9DF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4BA-7922-4641-A90C-5A5F9455F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A1DA-0BB3-4012-B1B2-784079A9624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DA4D-1EE3-48C8-84E9-00DDF53298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A337-14BE-4747-B4E8-84EA3520F0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E3AD-D2CE-4A10-AE25-B2A559B9C2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D4C-096F-4173-8296-019FDBB6C1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E9EE-88DA-4E9D-96DB-9279799E9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42E-6530-4F02-99DF-BB6EAEABBD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0FCC-EE7D-4691-8E50-7A7F339C7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869-9714-480E-A57D-CA371466FF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346D-6FDA-4285-BF00-05206F0D54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269-E552-44E8-9C84-7ACB98682A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214-0FC9-4FB0-B437-C6FCD92BCF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0F9-CE60-4EB9-A6B4-DB36C0DCCE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7ED-29ED-47F7-B2F3-B857EFEFE3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8722-F3FE-4DA2-90D4-04707603CF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476-C3B0-4516-AA6D-1A7655679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eece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17B-EF02-49EF-8439-A898491486F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64E-FEDF-49A9-9A36-CF910E886B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27"/>
          <p:cNvSpPr/>
          <p:nvPr/>
        </p:nvSpPr>
        <p:spPr>
          <a:xfrm>
            <a:off x="758880" y="320760"/>
            <a:ext cx="76262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030"/>
          <p:cNvSpPr/>
          <p:nvPr/>
        </p:nvSpPr>
        <p:spPr>
          <a:xfrm>
            <a:off x="493560" y="506520"/>
            <a:ext cx="8650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 состоянии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 перспективах развития системы оказания реабилитационной помощи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(в том числе детям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Российской Федер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9" name="Object 1026"/>
          <p:cNvGraphicFramePr/>
          <p:nvPr/>
        </p:nvGraphicFramePr>
        <p:xfrm>
          <a:off x="-25560" y="-25560"/>
          <a:ext cx="172908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-25560"/>
                    <a:ext cx="172908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Прямоугольник 1"/>
          <p:cNvSpPr/>
          <p:nvPr/>
        </p:nvSpPr>
        <p:spPr>
          <a:xfrm>
            <a:off x="866880" y="4344840"/>
            <a:ext cx="790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едание «круглого стола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итета Государственной Думы ФС РФ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хране здоровь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 октября 2014 год,  г.Москв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9200" y="15393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ОБ УТВЕРЖДЕНИИ ГОСУДАРСТВЕННОЙ ПРОГРАММЫ РОССИЙСКОЙ ФЕДЕРАЦИИ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"РАЗВИТИЕ ЗДРАВООХРАНЕНИЯ"</a:t>
            </a:r>
            <a:br>
              <a:rPr sz="2200"/>
            </a:br>
            <a:endParaRPr b="0" lang="en-US" sz="22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10" name="Прямоугольник 4"/>
          <p:cNvSpPr/>
          <p:nvPr/>
        </p:nvSpPr>
        <p:spPr>
          <a:xfrm>
            <a:off x="203040" y="165240"/>
            <a:ext cx="88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ановление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тельства Российской Федерации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94 от   15 апреля 2014 год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5"/>
          <p:cNvSpPr/>
          <p:nvPr/>
        </p:nvSpPr>
        <p:spPr>
          <a:xfrm>
            <a:off x="619200" y="261144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программа 5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РАЗВИТИЕ МЕДИЦИНСКОЙ РЕАБИЛИТАЦИИ И САНАТОРНО-КУРОРТНОГО ЛЕЧЕНИЯ, В ТОМ ЧИСЛЕ ДЕТЯМ"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оугольник 9"/>
          <p:cNvSpPr/>
          <p:nvPr/>
        </p:nvSpPr>
        <p:spPr>
          <a:xfrm>
            <a:off x="468360" y="3533760"/>
            <a:ext cx="819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жидаемые результаты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доступности санаторно-курортного лечения для пациентов до не менее 45%  от числа нуждающихся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доли пациентов, охваченных медицинской реабилитацией, от числа нуждающихся после оказания специализированной медицинской помощи до не менее 25%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величение доли детей-инвалидов от числа нуждающихся, охваченных медицинской реабилитацией, до 85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9" descr="C:\Users\Dep\Desktop\загруженное.jpg"/>
          <p:cNvPicPr/>
          <p:nvPr/>
        </p:nvPicPr>
        <p:blipFill>
          <a:blip r:embed="rId1"/>
          <a:stretch/>
        </p:blipFill>
        <p:spPr>
          <a:xfrm>
            <a:off x="0" y="0"/>
            <a:ext cx="1359000" cy="1001880"/>
          </a:xfrm>
          <a:prstGeom prst="rect">
            <a:avLst/>
          </a:prstGeom>
          <a:ln w="0">
            <a:noFill/>
          </a:ln>
        </p:spPr>
      </p:pic>
      <p:sp>
        <p:nvSpPr>
          <p:cNvPr id="61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91760" y="3362400"/>
            <a:ext cx="42656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Минздрава РФ № 1705 н от 29.12.2012</a:t>
            </a:r>
            <a:br>
              <a:rPr sz="2800"/>
            </a:br>
            <a:br>
              <a:rPr sz="2800"/>
            </a:br>
            <a:r>
              <a:rPr b="1" lang="ru-RU" sz="2600" spc="-1" strike="noStrike">
                <a:solidFill>
                  <a:srgbClr val="c00000"/>
                </a:solidFill>
                <a:latin typeface="Arial"/>
              </a:rPr>
              <a:t>«О ПОРЯДКЕ ОРГАНИЗАЦИИ МЕДИЦИНСКОЙ РЕАБИЛИТАЦИИ</a:t>
            </a:r>
            <a:br>
              <a:rPr sz="2600"/>
            </a:br>
            <a:endParaRPr b="0" lang="en-US" sz="26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5103720" y="547560"/>
            <a:ext cx="3710160" cy="53215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C:\Users\User\Desktop\загруженное.jpg"/>
          <p:cNvPicPr/>
          <p:nvPr/>
        </p:nvPicPr>
        <p:blipFill>
          <a:blip r:embed="rId2"/>
          <a:stretch/>
        </p:blipFill>
        <p:spPr>
          <a:xfrm>
            <a:off x="365040" y="239760"/>
            <a:ext cx="1121040" cy="123012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22392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1d1d"/>
                </a:solidFill>
                <a:latin typeface="Arial"/>
                <a:ea typeface="Calibri"/>
              </a:rPr>
              <a:t>Заседание Координационного совета при Президенте </a:t>
            </a:r>
            <a:br>
              <a:rPr sz="2000"/>
            </a:br>
            <a:r>
              <a:rPr b="1" lang="ru-RU" sz="2000" spc="-1" strike="noStrike">
                <a:solidFill>
                  <a:srgbClr val="1d1d1d"/>
                </a:solidFill>
                <a:latin typeface="Arial"/>
                <a:ea typeface="Calibri"/>
              </a:rPr>
              <a:t>по реализации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Национальной стратегии действий в интересах детей на 2012–2017 годы</a:t>
            </a:r>
            <a:br>
              <a:rPr sz="2000"/>
            </a:br>
            <a:r>
              <a:rPr b="1" lang="ru-RU" sz="2000" spc="-1" strike="noStrike">
                <a:solidFill>
                  <a:srgbClr val="1d1d1d"/>
                </a:solidFill>
                <a:latin typeface="Arial"/>
                <a:ea typeface="Calibri"/>
              </a:rPr>
              <a:t> (утверждена Указом Президента РФ от 1 июня 2012 г. № 761)</a:t>
            </a:r>
            <a:br>
              <a:rPr sz="2000"/>
            </a:br>
            <a:r>
              <a:rPr b="1" lang="ru-RU" sz="2000" spc="-1" strike="noStrike">
                <a:solidFill>
                  <a:srgbClr val="1d1d1d"/>
                </a:solidFill>
                <a:latin typeface="Arial"/>
                <a:ea typeface="Calibri"/>
              </a:rPr>
              <a:t>                                                                             </a:t>
            </a:r>
            <a:r>
              <a:rPr b="1" i="1" lang="ru-RU" sz="1800" spc="-1" strike="noStrike">
                <a:solidFill>
                  <a:srgbClr val="1d1d1d"/>
                </a:solidFill>
                <a:latin typeface="Arial"/>
                <a:ea typeface="Calibri"/>
              </a:rPr>
              <a:t>27 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01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а</a:t>
            </a:r>
            <a:endParaRPr b="0" lang="en-US" sz="1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20" name="Прямоугольник 9"/>
          <p:cNvSpPr/>
          <p:nvPr/>
        </p:nvSpPr>
        <p:spPr>
          <a:xfrm>
            <a:off x="555480" y="2055960"/>
            <a:ext cx="846144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учение Президента от 21.06.2014 № </a:t>
            </a:r>
            <a:r>
              <a:rPr b="1" i="1" lang="ru-RU" sz="1800" spc="-1" strike="noStrike">
                <a:solidFill>
                  <a:srgbClr val="1d1d1d"/>
                </a:solidFill>
                <a:latin typeface="Arial"/>
                <a:ea typeface="Times New Roman"/>
              </a:rPr>
              <a:t>пр-146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авительству РФ совместно с  органами исполнительной власти субъектов РФ обеспечить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формирование единой государственной системы реабилитации детей и подростко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едусмотрев создание реабилитационных центров в субъектах РФ, в т.ч. межрегиональных, с возможностью оказания в них высокотехнологичной медицинской помощи детям с онкологическими заболеваниями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ложить научно-методическое руководство на ФГБУ «Научный центр здоровья детей» Российской академии медицинских наук, придав ему статус национального научного центра здоровья детей и подростков, и на ФГБУ «Федеральный научно-клинический центр детской гематологии, онкологии и иммунологии имени Д. Рогачёва»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лад – 15 октября 2014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A17-EDA6-484C-AC90-9D9FD3A5D6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3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10"/>
          <p:cNvSpPr/>
          <p:nvPr/>
        </p:nvSpPr>
        <p:spPr>
          <a:xfrm>
            <a:off x="482760" y="971640"/>
            <a:ext cx="85201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Статья 60. Медико-социальная экспертиза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Медико-социальная экспертиза проводится в целях определения потребностей освидетельствуемого лица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 мерах социальной защиты, включая реабилитацию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еральными учреждениями медико-социальной экспертизы на основе оценки ограничений жизнедеятельности, вызванных стойким расстройством функций организм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Медико-социальная экспертиза проводится в соответствии с законодательством Российской Федерации о социальной защите инвалид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62120" y="4381560"/>
            <a:ext cx="7961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Федеральный закон от 24 ноября 1995 г. № 181-Ф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О СОЦИАЛЬНОЙ  ЗАЩИТЕ  ИНВАЛИДОВ РФ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Прямоугольник 1"/>
          <p:cNvSpPr/>
          <p:nvPr/>
        </p:nvSpPr>
        <p:spPr>
          <a:xfrm>
            <a:off x="855720" y="5211720"/>
            <a:ext cx="72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БИЛИТАЦИЯ ИНВАЛИДО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Прямоугольник 3"/>
          <p:cNvSpPr/>
          <p:nvPr/>
        </p:nvSpPr>
        <p:spPr>
          <a:xfrm>
            <a:off x="762120" y="5648400"/>
            <a:ext cx="76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1.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программа реабилитации инвали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027"/>
          <p:cNvSpPr/>
          <p:nvPr/>
        </p:nvSpPr>
        <p:spPr>
          <a:xfrm>
            <a:off x="758880" y="320760"/>
            <a:ext cx="76262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030"/>
          <p:cNvSpPr/>
          <p:nvPr/>
        </p:nvSpPr>
        <p:spPr>
          <a:xfrm>
            <a:off x="493560" y="506520"/>
            <a:ext cx="8650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 состоянии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 перспективах развития системы оказания реабилитационной помощи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(в том числе детям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Российской Федер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3" name="Object 1026"/>
          <p:cNvGraphicFramePr/>
          <p:nvPr/>
        </p:nvGraphicFramePr>
        <p:xfrm>
          <a:off x="-25560" y="-25560"/>
          <a:ext cx="172908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-25560"/>
                    <a:ext cx="172908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Прямоугольник 1"/>
          <p:cNvSpPr/>
          <p:nvPr/>
        </p:nvSpPr>
        <p:spPr>
          <a:xfrm>
            <a:off x="866880" y="4344840"/>
            <a:ext cx="790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едание «круглого стола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итета Государственной Думы ФС РФ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хране здоровь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 октября 2014 год,  г.Москв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27"/>
          <p:cNvSpPr/>
          <p:nvPr/>
        </p:nvSpPr>
        <p:spPr>
          <a:xfrm>
            <a:off x="758880" y="320760"/>
            <a:ext cx="76262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030"/>
          <p:cNvSpPr/>
          <p:nvPr/>
        </p:nvSpPr>
        <p:spPr>
          <a:xfrm>
            <a:off x="203040" y="493560"/>
            <a:ext cx="865044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Законодательное регулирование вопросов оказания реабилитационной помощи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(в том числе детям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Российской Федер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УРЗАБАЕВА САЛИЯ ШАРИФЬЯНОВНА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лен Комитета по охране здоровья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ой Думы  ФС РФ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.м.н., заслуженный врач РБ, РФ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5" name="Object 1026"/>
          <p:cNvGraphicFramePr/>
          <p:nvPr/>
        </p:nvGraphicFramePr>
        <p:xfrm>
          <a:off x="7415280" y="5595840"/>
          <a:ext cx="1728720" cy="12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5280" y="5595840"/>
                    <a:ext cx="172872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374-8DDD-41D1-BF30-2F522EAEF5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482760" y="971640"/>
            <a:ext cx="85201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40. Медицинская реабилитация и санаторно-курортное лечени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дицинская реабилитация - комплекс мероприятий медицинского и психологического характера, направленных на полное или частичное восстановление нарушенных и (или) компенсацию утраченных функций пораженного органа либо системы организма, поддержание функций организма в процессе завершения остро развившегося патологического процесса или обострения хронического патологического процесса в организме, а также на предупреждение, раннюю диагностику и коррекцию возможных нарушений функций поврежденных органов либо систем организма, предупреждение и снижение степени возможной инвалидности, улучшение качества жизни, сохранение работоспособности пациента и его социальную интеграцию в общество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37F-8086-4070-8322-5C307F554D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Прямоугольник 10"/>
          <p:cNvSpPr/>
          <p:nvPr/>
        </p:nvSpPr>
        <p:spPr>
          <a:xfrm>
            <a:off x="482760" y="738360"/>
            <a:ext cx="852012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40. Медицинская реабилитация и санаторно-курортное лечени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Медицинская реабилитация осуществляется в медицинских организациях и включает в себя комплексное применение природных лечебных факторов, лекарственной, немедикаментозной терапии и других метод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Санаторно-курортное лечение включает в себя медицинскую помощь, осуществляемую медицинскими организациями (санаторно-курортными организациями) в профилактических, лечебных и реабилитационных целях на основе использования природных лечебных ресурсов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5. Порядок организации медицинской реабилитации и санаторно-курортного лечения, перечень медицинских показаний и противопоказаний для медицинской реабилитации и санаторно-курортного лечения утверждаются уполномоченным федеральным органом исполнительной власт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3F8-39FD-4C0A-BA0A-D5454EDD7A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Прямоугольник 10"/>
          <p:cNvSpPr/>
          <p:nvPr/>
        </p:nvSpPr>
        <p:spPr>
          <a:xfrm>
            <a:off x="482760" y="971640"/>
            <a:ext cx="852012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2. Основные понятия, используемые в настоящем Федеральном законе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медицинская услуга - медицинское вмешательство или комплекс медицинских вмешательств, направленных на профилактику, диагностику и лечение заболеваний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едицинскую реабилитаци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имеющих самостоятельное законченное значение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1) качество медицинской помощи - совокупность характеристик, отражающих своевременность оказания медицинской помощи, правильность выбора методов профилактики, диагностики, лечения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и реабилитаци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оказании медицинской помощи, степень достижения запланированного результат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BA0-54BD-4867-B90D-816ADB056B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10"/>
          <p:cNvSpPr/>
          <p:nvPr/>
        </p:nvSpPr>
        <p:spPr>
          <a:xfrm>
            <a:off x="482760" y="971640"/>
            <a:ext cx="852012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8. Социальная защищенность граждан в случае утраты здоровья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… обеспечивается путем установления и реализации правовых, экономических, организационных, медико-социальных и других мер, гарантирующих социальное обеспечение, … определения потребности гражданина в социальной защите в соответствии с законодательством РФ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реабилитации и уходе в случае заболева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состояния), установления временной нетрудоспособности, инвалидности ….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19. Право на медицинскую помощь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Пациент имеет право н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актику, диагностику, лечение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едицинскую реабилитаци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медицинских организациях в условиях, соответствующих санитарно-гигиеническим требованиям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A27-1D42-452E-8C71-BE12E29676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оугольник 10"/>
          <p:cNvSpPr/>
          <p:nvPr/>
        </p:nvSpPr>
        <p:spPr>
          <a:xfrm>
            <a:off x="482760" y="971640"/>
            <a:ext cx="852012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33. Первичная медико-санитарная помощь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 … Первичная медико-санитарная помощь включает в себя мероприятия по профилактике, диагностике, лечению заболеваний и состояний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едицинской реабилит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наблюдению за течением беременности, формированию здорового образа жизни и санитарно-гигиеническому просвещению населени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Статья 34. Специализированная, в том числе высокотехнологичная, медицинская помощь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Специализированную медицинская помощь включает в себя профилактику, диагностику и лечение заболеваний и состояни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в т.ч.  в период беременности, родов и послеродовой период), требующих использования специальных методов и сложных медицинских технологий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 также медицинскую реабилитацию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A6D-F454-40B2-BD32-8BB381EB67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9" name="Object 1026"/>
          <p:cNvGraphicFramePr/>
          <p:nvPr/>
        </p:nvGraphicFramePr>
        <p:xfrm>
          <a:off x="0" y="0"/>
          <a:ext cx="13636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36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Rectangle 2"/>
          <p:cNvSpPr/>
          <p:nvPr/>
        </p:nvSpPr>
        <p:spPr>
          <a:xfrm>
            <a:off x="1654200" y="203040"/>
            <a:ext cx="7243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едеральный закон от 21 ноября 2011 г. № 323-ФЗ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ОБ ОСНОВАХ ОХРАНЫ ЗДОРОВЬЯ ГРАЖДАН В РФ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оугольник 10"/>
          <p:cNvSpPr/>
          <p:nvPr/>
        </p:nvSpPr>
        <p:spPr>
          <a:xfrm>
            <a:off x="482760" y="971640"/>
            <a:ext cx="8520120" cy="54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80. Программа государственных гарантий бесплатного оказания гражданам медицинской помощ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 рамках программы государственных гарантий бесплатного оказания гражданам медицинской помощи предоставляются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ичная медико-санитарная помощь,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ециализированная медицинская помощь,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 83. Финансовое обеспечение оказания гражданам медицинской помощи и санаторно-курортного леч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Финансовое обеспечение санаторно-курортного лечения граждан,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за исключением медицинской реабилитаци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осуществляется за счет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) бюджетных ассигнований соответствующих бюджетов, выделяемых для отдельных категорий граждан, установленных законодательством Российской Федерации, и бюджетных ассигнований федерального бюджета, выделяемых федеральным органам исполнительной власти на оказание государственных услуг по санаторно-курортному лечению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иных источников в соответствии с настоящим законом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79320" y="18720"/>
            <a:ext cx="8229600" cy="293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АВИТЕЛЬСТВО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ПОСТАНОВЛЕНИЕ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от т 18 октября № 932 (в ред. от 29.05.2014  № 489)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 ПРОГРАММЕ ГОСУДАРСТВЕННЫХ ГАРАНТИЙ БЕСПЛАТНОГО ОКАЗАНИЯ ГРАЖДАНАМ МЕДИЦИНСКОЙ ПОМОЩИ НА 2014 ГОД И НА ПЛАНОВЫЙ ПЕРИОД 2015 И 2016»</a:t>
            </a:r>
            <a:endParaRPr b="0" lang="en-US" sz="20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05" name="Picture 9" descr="C:\Users\Dep\Desktop\загруженное.jpg"/>
          <p:cNvPicPr/>
          <p:nvPr/>
        </p:nvPicPr>
        <p:blipFill>
          <a:blip r:embed="rId1"/>
          <a:stretch/>
        </p:blipFill>
        <p:spPr>
          <a:xfrm>
            <a:off x="0" y="0"/>
            <a:ext cx="1359000" cy="100188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оугольник 5"/>
          <p:cNvSpPr/>
          <p:nvPr/>
        </p:nvSpPr>
        <p:spPr>
          <a:xfrm>
            <a:off x="171360" y="5073480"/>
            <a:ext cx="84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Прямоугольник 7"/>
          <p:cNvSpPr/>
          <p:nvPr/>
        </p:nvSpPr>
        <p:spPr>
          <a:xfrm>
            <a:off x="679320" y="2981160"/>
            <a:ext cx="819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. Средние нормативы объема медицинской помощ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едицинской помощи в стационарных условиях, в том числ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едицинской реабилитации в рамках базовой программы ОМС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2014 год - 0,03 койко-дня на 1 застрахованное лицо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2015 год - 0,033 койко-дня на 1 застрахованное лицо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2016 год - 0,039 койко-дня на 1 застрахованное лицо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. Средние нормативы финансовых затра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14 году - 1293,8 рублей на одно застрахованное лицо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15 году - 1539,3 рублей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16 году - 1623,4 рубл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8:12:02Z</dcterms:created>
  <dc:creator>12345</dc:creator>
  <dc:description/>
  <dc:language>en-US</dc:language>
  <cp:lastModifiedBy>user1</cp:lastModifiedBy>
  <dcterms:modified xsi:type="dcterms:W3CDTF">2014-10-20T05:35:01Z</dcterms:modified>
  <cp:revision>733</cp:revision>
  <dc:subject/>
  <dc:title>Федеральная служба по надзору  в сфере здравоохранения  и социального развития</dc:title>
</cp:coreProperties>
</file>