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5.png" ContentType="image/png"/>
  <Override PartName="/ppt/media/image24.wmf" ContentType="image/x-wmf"/>
  <Override PartName="/ppt/media/image23.wmf" ContentType="image/x-wmf"/>
  <Override PartName="/ppt/media/image28.jpeg" ContentType="image/jpeg"/>
  <Override PartName="/ppt/media/image22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11.png" ContentType="image/png"/>
  <Override PartName="/ppt/media/image6.wmf" ContentType="image/x-wmf"/>
  <Override PartName="/ppt/media/image35.wmf" ContentType="image/x-wmf"/>
  <Override PartName="/ppt/media/image31.png" ContentType="image/png"/>
  <Override PartName="/ppt/media/image32.png" ContentType="image/png"/>
  <Override PartName="/ppt/media/image15.wmf" ContentType="image/x-wmf"/>
  <Override PartName="/ppt/media/image12.png" ContentType="image/png"/>
  <Override PartName="/ppt/media/image30.jpeg" ContentType="image/jpeg"/>
  <Override PartName="/ppt/media/image7.wmf" ContentType="image/x-wmf"/>
  <Override PartName="/ppt/media/image36.png" ContentType="image/png"/>
  <Override PartName="/ppt/media/image37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1.jpeg" ContentType="image/jpeg"/>
  <Override PartName="/ppt/media/image10.png" ContentType="image/png"/>
  <Override PartName="/ppt/media/image16.wmf" ContentType="image/x-wmf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B3EA-F0CE-41DB-82FE-23AD7107C7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относительного риска развития суммы сердечно-сосудистых событий в случае участия в КР составила 80%, для РСТ – 80%, НМК – 78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, ЧКВ имели место только во 2 групп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C7AD-CC6B-4EF1-99B5-B5A8E9FE92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равнительном анализе по группам отмечено, что больные II группы, госпитализировались и вызывали БСП более, чем в 6 раз чаще, чем пациенты I Практически 2/3 больны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руппы ежегодно госпитализировались и обращались за неотложной помощь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8E8D-D560-4769-80DB-82ACE6B4DF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если до операции, число лиц, признанными инвалидами составляло 54%, то после КШ их число резко увеличилось в обеих группах и составило более 80%. Несмотря на то, ч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руппе % больных, признанных инвалидами, был значимо меньше, чем в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й, прирост числа инвалидов, относительно дооперационного уровня, в 1 группе оказался более выраж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BD7C-4584-4729-88A2-A8AB013858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1"/>
          <p:cNvSpPr/>
          <p:nvPr/>
        </p:nvSpPr>
        <p:spPr>
          <a:xfrm>
            <a:off x="3884760" y="8685360"/>
            <a:ext cx="29653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FEA28-3D03-47C1-B540-937D7A34E22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"/>
          <p:cNvSpPr/>
          <p:nvPr/>
        </p:nvSpPr>
        <p:spPr>
          <a:xfrm>
            <a:off x="3884760" y="8685360"/>
            <a:ext cx="29685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7B303-3EDC-45E1-AA30-85067FFB821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701720" y="990720"/>
            <a:ext cx="6602400" cy="4951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000080" y="6272280"/>
            <a:ext cx="8005680" cy="59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ведении анализа экономической эффективности выполненных мероприятий КР с использованием метода «затраты-эффективность» было установлено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-й год соотношение сэкономленных средств к затратам на реабилитацию составило 5,4, во 2-й – 8,5. Это означает, что каждый рубль, вложенный в мероприятия КР в 1 год, приводит к экономии затрат на лечение в 5,4 рубля, во 2-й – 8,5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рный экономический эффект от проведения реабилитационных мероприятий за 2 года рассчитан как разница между экономией и затратами на КР и составил 257 372,2 руб./чел, что сопоставимо со стоимостью операции К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03B5-34E7-4696-8D63-0B2BF2933A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F614-07BE-46E7-91A4-25FF1FCC7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1133640" y="677880"/>
            <a:ext cx="459072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4960" cy="118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больным выполнено КШ с полной реваскуляризацией миокарда. В ходе операции наложено в среднем 3,0±0,9 шунтов к коронарным артериям. Характеристика послеоперационных осложнений, состава, длительности и стоимости стационарного этапа реабилитации представлены в таблицах 4 – 6. статистическ значимых различи по гуппам е было ДОПИС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1"/>
          <p:cNvSpPr/>
          <p:nvPr/>
        </p:nvSpPr>
        <p:spPr>
          <a:xfrm>
            <a:off x="3884760" y="8685360"/>
            <a:ext cx="29653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CEDFF-73AA-434F-88F9-4A8D8B7DEC8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"/>
          <p:cNvSpPr/>
          <p:nvPr/>
        </p:nvSpPr>
        <p:spPr>
          <a:xfrm>
            <a:off x="3884760" y="8685360"/>
            <a:ext cx="29685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787BF-1389-4FF2-8713-5437A52389D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701720" y="990720"/>
            <a:ext cx="6602400" cy="4951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000080" y="6272280"/>
            <a:ext cx="8005680" cy="59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35E-76C4-48E1-A5EE-BFA4B4B5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DEA-DBBD-4E51-B5C8-C8AF2B07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508-F412-4B78-9625-2968DE79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AEB-27AF-44AB-9D52-2C059DB7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B00-B271-48E1-B1E7-99E0CA85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441-031F-4302-A58C-6DBFCD15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8C0-668E-4279-A2F6-E2C19C4F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0E6-CDE4-4FA8-9CEF-2787169F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44B-AA77-4DF8-AA2E-AE16BF72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E890-3C6D-4CC3-99D5-97C26AE0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D63-AF5E-4545-9592-37CC91FC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226-7583-43F9-9DDE-7FFA35AF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E760-B3CE-4A10-9A72-B385D40EF5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ГБУ «ФМИЦ им.В.А.Алмазова» Минздрава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907920"/>
            <a:ext cx="9144000" cy="23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ая эффективность кардиореабилит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.НИЛ реабилит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ководитель научно-клин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единения (НКО) реабили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м.н. Демченко Еле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382920"/>
            <a:ext cx="4067280" cy="3475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51280" y="3403440"/>
            <a:ext cx="4392720" cy="345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70776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ehensi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765000"/>
            <a:ext cx="8496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9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‘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BCDE</a:t>
            </a:r>
            <a:r>
              <a:rPr b="1" lang="en-US" sz="2600" spc="-1" strike="noStrike" u="sng">
                <a:solidFill>
                  <a:srgbClr val="222268"/>
                </a:solidFill>
                <a:uFillTx/>
                <a:latin typeface="Times New Roman"/>
              </a:rPr>
              <a:t>F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9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’ 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tiplatelet therapy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9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ticoagulation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9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giotensin-converting enzyme inhibition, or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9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giotensin receptor block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9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’ 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eta-blockade 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9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lood pressure contro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9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’ -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holesterol treatment 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9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igarette smoking cessation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9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D’ - </a:t>
            </a: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Diabetes management 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9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Die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9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E’ - </a:t>
            </a: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600" spc="-1" strike="noStrike">
                <a:solidFill>
                  <a:srgbClr val="000000"/>
                </a:solidFill>
                <a:latin typeface="Times New Roman"/>
              </a:rPr>
              <a:t>Exerci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9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600" spc="-1" strike="noStrike">
                <a:solidFill>
                  <a:srgbClr val="222268"/>
                </a:solidFill>
                <a:latin typeface="Times New Roman"/>
              </a:rPr>
              <a:t>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9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222268"/>
                </a:solidFill>
                <a:latin typeface="Times New Roman"/>
              </a:rPr>
              <a:t>‘</a:t>
            </a:r>
            <a:r>
              <a:rPr b="1" lang="fr-FR" sz="2600" spc="-1" strike="noStrike">
                <a:solidFill>
                  <a:srgbClr val="222268"/>
                </a:solidFill>
                <a:latin typeface="Times New Roman"/>
              </a:rPr>
              <a:t>F’</a:t>
            </a:r>
            <a:r>
              <a:rPr b="1" lang="ru-RU" sz="2600" spc="-1" strike="noStrike">
                <a:solidFill>
                  <a:srgbClr val="222268"/>
                </a:solidFill>
                <a:latin typeface="Times New Roman"/>
              </a:rPr>
              <a:t> -</a:t>
            </a:r>
            <a:r>
              <a:rPr b="1" lang="fr-FR" sz="2600" spc="-1" strike="noStrike">
                <a:solidFill>
                  <a:srgbClr val="222268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222268"/>
                </a:solidFill>
                <a:latin typeface="Times New Roman"/>
              </a:rPr>
              <a:t>  </a:t>
            </a:r>
            <a:r>
              <a:rPr b="1" lang="fr-FR" sz="2600" spc="-1" strike="noStrike">
                <a:solidFill>
                  <a:srgbClr val="222268"/>
                </a:solidFill>
                <a:latin typeface="Times New Roman"/>
              </a:rPr>
              <a:t>Follow-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грамма амбулаторной реабилитации – 1-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Консультация карди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.Очно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(1, 4, 7-8, 12 мес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2. Заочно: 4 (между очными визитам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Консультация врача ЛФК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(в дни очных конс. кар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Обучающее занятие с инструктором ЛФК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енажерные трениров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2 (по жела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сультация психоло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сультация психотерапев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по потре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Психокоррек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по потре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абораторное об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липидный спектр, печеночные трансаминазы, уровень гликемии, креатинин, гемоглобин)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струментальное обследовани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КГ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хоКГ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М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ФН –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грамма амбулаторной реабилитации – 2-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Консультация карди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.Очно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2. Заочно: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Консультация врача ЛФК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Обучающее занятие с инструктором ЛФ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икл тренажерный трениров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2 (по жела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сультация психоло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сультация психотерапев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по потре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Психокоррек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по потре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абораторное об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липидный спектр, уровень гликемии, креатинин, гемоглобин)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струментальное обследовани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КГ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хоКГ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ФН –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М – по показа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Расчетная стоим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-й год после КШ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9,8 тыс. ру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-й год после КШ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,0 тыс. ру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сего  (2 года) 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7,9 тыс. ру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Фактическая стоимость (в группе КР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-й год после КШ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,3 тыс. ру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-й год после КШ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,8 тыс. ру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сего  (2 года) 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6,1 тыс. ру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тоимость полного объема мероприятий амбулаторного этапа (на 1 больног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20880"/>
            <a:ext cx="9144000" cy="88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едняя ежегодная частота развития сердечно-сосудистых событ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Объект 4" descr=""/>
          <p:cNvPicPr/>
          <p:nvPr/>
        </p:nvPicPr>
        <p:blipFill>
          <a:blip r:embed="rId1"/>
          <a:stretch/>
        </p:blipFill>
        <p:spPr>
          <a:xfrm>
            <a:off x="-119160" y="714240"/>
            <a:ext cx="4343400" cy="3089520"/>
          </a:xfrm>
          <a:prstGeom prst="rect">
            <a:avLst/>
          </a:prstGeom>
          <a:ln w="0">
            <a:noFill/>
          </a:ln>
        </p:spPr>
      </p:pic>
      <p:pic>
        <p:nvPicPr>
          <p:cNvPr id="139" name="Объект 4" descr=""/>
          <p:cNvPicPr/>
          <p:nvPr/>
        </p:nvPicPr>
        <p:blipFill>
          <a:blip r:embed="rId2"/>
          <a:stretch/>
        </p:blipFill>
        <p:spPr>
          <a:xfrm>
            <a:off x="4010040" y="714240"/>
            <a:ext cx="5156280" cy="2765520"/>
          </a:xfrm>
          <a:prstGeom prst="rect">
            <a:avLst/>
          </a:prstGeom>
          <a:ln w="0">
            <a:noFill/>
          </a:ln>
        </p:spPr>
      </p:pic>
      <p:pic>
        <p:nvPicPr>
          <p:cNvPr id="140" name="Объект 4" descr=""/>
          <p:cNvPicPr/>
          <p:nvPr/>
        </p:nvPicPr>
        <p:blipFill>
          <a:blip r:embed="rId3"/>
          <a:stretch/>
        </p:blipFill>
        <p:spPr>
          <a:xfrm>
            <a:off x="-50760" y="3873600"/>
            <a:ext cx="4313160" cy="2870280"/>
          </a:xfrm>
          <a:prstGeom prst="rect">
            <a:avLst/>
          </a:prstGeom>
          <a:ln w="0">
            <a:noFill/>
          </a:ln>
        </p:spPr>
      </p:pic>
      <p:pic>
        <p:nvPicPr>
          <p:cNvPr id="141" name="Объект 4" descr=""/>
          <p:cNvPicPr/>
          <p:nvPr/>
        </p:nvPicPr>
        <p:blipFill>
          <a:blip r:embed="rId4"/>
          <a:stretch/>
        </p:blipFill>
        <p:spPr>
          <a:xfrm>
            <a:off x="3800520" y="3873600"/>
            <a:ext cx="5373720" cy="24969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9"/>
          <p:cNvSpPr/>
          <p:nvPr/>
        </p:nvSpPr>
        <p:spPr>
          <a:xfrm>
            <a:off x="6018480" y="63198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1692360" y="6411960"/>
            <a:ext cx="215640" cy="18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0"/>
          <p:cNvSpPr/>
          <p:nvPr/>
        </p:nvSpPr>
        <p:spPr>
          <a:xfrm>
            <a:off x="5651640" y="6411960"/>
            <a:ext cx="215640" cy="183960"/>
          </a:xfrm>
          <a:prstGeom prst="rect">
            <a:avLst/>
          </a:prstGeom>
          <a:solidFill>
            <a:srgbClr val="5959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2"/>
          <p:cNvSpPr/>
          <p:nvPr/>
        </p:nvSpPr>
        <p:spPr>
          <a:xfrm>
            <a:off x="591120" y="5342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р&lt;0,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2292840" y="538020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р&lt;0,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496080" y="37465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= –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2263680" y="429264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= –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8"/>
          <p:cNvSpPr/>
          <p:nvPr/>
        </p:nvSpPr>
        <p:spPr>
          <a:xfrm>
            <a:off x="5663520" y="49719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= –7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20880"/>
            <a:ext cx="9144000" cy="88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едняя ежегодная частота обращений за неотложной помощью и госпитализац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Объект 4" descr=""/>
          <p:cNvPicPr/>
          <p:nvPr/>
        </p:nvPicPr>
        <p:blipFill>
          <a:blip r:embed="rId1"/>
          <a:stretch/>
        </p:blipFill>
        <p:spPr>
          <a:xfrm>
            <a:off x="-374760" y="714240"/>
            <a:ext cx="9821880" cy="3125880"/>
          </a:xfrm>
          <a:prstGeom prst="rect">
            <a:avLst/>
          </a:prstGeom>
          <a:ln w="0">
            <a:noFill/>
          </a:ln>
        </p:spPr>
      </p:pic>
      <p:pic>
        <p:nvPicPr>
          <p:cNvPr id="152" name="Объект 4" descr=""/>
          <p:cNvPicPr/>
          <p:nvPr/>
        </p:nvPicPr>
        <p:blipFill>
          <a:blip r:embed="rId2"/>
          <a:stretch/>
        </p:blipFill>
        <p:spPr>
          <a:xfrm>
            <a:off x="-50760" y="3625920"/>
            <a:ext cx="9245520" cy="28162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9"/>
          <p:cNvSpPr/>
          <p:nvPr/>
        </p:nvSpPr>
        <p:spPr>
          <a:xfrm>
            <a:off x="6018480" y="63198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1692360" y="6411960"/>
            <a:ext cx="215640" cy="18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0"/>
          <p:cNvSpPr/>
          <p:nvPr/>
        </p:nvSpPr>
        <p:spPr>
          <a:xfrm>
            <a:off x="5651640" y="6411960"/>
            <a:ext cx="215640" cy="183960"/>
          </a:xfrm>
          <a:prstGeom prst="rect">
            <a:avLst/>
          </a:prstGeom>
          <a:solidFill>
            <a:srgbClr val="5959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923120" y="5283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р&lt;0,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5720400" y="531648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р&lt;0,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0"/>
          <p:cNvSpPr/>
          <p:nvPr/>
        </p:nvSpPr>
        <p:spPr>
          <a:xfrm>
            <a:off x="2117520" y="63198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2"/>
          <p:cNvSpPr/>
          <p:nvPr/>
        </p:nvSpPr>
        <p:spPr>
          <a:xfrm>
            <a:off x="1418040" y="417528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 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8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3"/>
          <p:cNvSpPr/>
          <p:nvPr/>
        </p:nvSpPr>
        <p:spPr>
          <a:xfrm>
            <a:off x="5264640" y="417672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8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1197000"/>
          <a:ext cx="9144000" cy="40323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03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ные после планового коронарного шунтирования (2 года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е данные (2010 – 2012 г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ируем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обыт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нижение риск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случае участ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грамме реабилит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вторичной профилак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цидив стенокард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c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4,3 р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cfd1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событ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ецидив СТ + ИМ +ОНМК + ЧКВ/КШ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5,4 р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питализ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c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6,4 р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cfd1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овы скорой помощ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9,9 р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Клиническая эффектив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реабилитации и вторичной профилакт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00720" y="5805360"/>
            <a:ext cx="39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ствен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бинская Е.И.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Влияние КР на размер и структуру прямых затрат на лечение больных ИБ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755640"/>
          <a:ext cx="9144000" cy="61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55640"/>
                    <a:ext cx="9144000" cy="61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56360" y="27813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4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720" y="2349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04360" y="37893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589720"/>
            <a:ext cx="23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серватив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55897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55897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92360" y="4255920"/>
            <a:ext cx="358920" cy="3457440"/>
          </a:xfrm>
          <a:custGeom>
            <a:avLst/>
            <a:gdLst>
              <a:gd name="textAreaLeft" fmla="*/ 0 w 358920"/>
              <a:gd name="textAreaRight" fmla="*/ 129600 w 358920"/>
              <a:gd name="textAreaTop" fmla="*/ 90000 h 3457440"/>
              <a:gd name="textAreaBottom" fmla="*/ 3367440 h 34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9440" y="6093000"/>
            <a:ext cx="14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К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11253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с. р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1 чел. в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5229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:(+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3640" y="522936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: (+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( -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1280" y="522936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: (+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( -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7080" y="2492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4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360" y="17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7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25080" y="2852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2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1225080" y="34650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2,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5616000" y="36097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Влияние КР на размер и структуру суммарных экономических потерь, связанных с ИБ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24000" y="777960"/>
          <a:ext cx="8820000" cy="59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77960"/>
                    <a:ext cx="8820000" cy="59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04364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7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88360" y="2637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7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720" y="41497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5661000"/>
            <a:ext cx="23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серватив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57340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64360" y="57340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4608720" y="4184640"/>
            <a:ext cx="358560" cy="3743280"/>
          </a:xfrm>
          <a:custGeom>
            <a:avLst/>
            <a:gdLst>
              <a:gd name="textAreaLeft" fmla="*/ 0 w 358560"/>
              <a:gd name="textAreaRight" fmla="*/ 129600 w 3585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97080" y="6165720"/>
            <a:ext cx="14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К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11253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с. р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1 чел. в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5300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:(+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-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0920" y="530064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: (+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( -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1640" y="530064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: (+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( -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872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5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640" y="19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21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1080" y="3213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4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80360" y="4508640"/>
            <a:ext cx="288720" cy="2887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40720" y="4508640"/>
            <a:ext cx="288720" cy="2887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479736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я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6000" y="3213000"/>
            <a:ext cx="28872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96360" y="3213000"/>
            <a:ext cx="28872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64720" y="3429000"/>
            <a:ext cx="159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с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лияние участия в программе КР на социальный статус больных ИБС в течение 2-х лет после К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Диаграмма 3" descr=""/>
          <p:cNvPicPr/>
          <p:nvPr/>
        </p:nvPicPr>
        <p:blipFill>
          <a:blip r:embed="rId1"/>
          <a:stretch/>
        </p:blipFill>
        <p:spPr>
          <a:xfrm>
            <a:off x="-31680" y="1298520"/>
            <a:ext cx="5576760" cy="333864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4"/>
          <p:cNvSpPr/>
          <p:nvPr/>
        </p:nvSpPr>
        <p:spPr>
          <a:xfrm>
            <a:off x="23400" y="104292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Диаграмма 5" descr=""/>
          <p:cNvPicPr/>
          <p:nvPr/>
        </p:nvPicPr>
        <p:blipFill>
          <a:blip r:embed="rId2"/>
          <a:stretch/>
        </p:blipFill>
        <p:spPr>
          <a:xfrm>
            <a:off x="4881600" y="4384800"/>
            <a:ext cx="4313160" cy="254952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6"/>
          <p:cNvSpPr/>
          <p:nvPr/>
        </p:nvSpPr>
        <p:spPr>
          <a:xfrm>
            <a:off x="6830640" y="414972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алид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Диаграмма 7" descr=""/>
          <p:cNvPicPr/>
          <p:nvPr/>
        </p:nvPicPr>
        <p:blipFill>
          <a:blip r:embed="rId3"/>
          <a:stretch/>
        </p:blipFill>
        <p:spPr>
          <a:xfrm>
            <a:off x="-15840" y="4449600"/>
            <a:ext cx="4206960" cy="245916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8"/>
          <p:cNvSpPr/>
          <p:nvPr/>
        </p:nvSpPr>
        <p:spPr>
          <a:xfrm>
            <a:off x="-1440" y="414972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образ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Диаграмма 9" descr=""/>
          <p:cNvPicPr/>
          <p:nvPr/>
        </p:nvPicPr>
        <p:blipFill>
          <a:blip r:embed="rId4"/>
          <a:stretch/>
        </p:blipFill>
        <p:spPr>
          <a:xfrm>
            <a:off x="4952880" y="1362240"/>
            <a:ext cx="4206960" cy="269388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10"/>
          <p:cNvSpPr/>
          <p:nvPr/>
        </p:nvSpPr>
        <p:spPr>
          <a:xfrm>
            <a:off x="6371280" y="10731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Б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1"/>
          <p:cNvSpPr/>
          <p:nvPr/>
        </p:nvSpPr>
        <p:spPr>
          <a:xfrm>
            <a:off x="391680" y="2573280"/>
            <a:ext cx="199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зврат к труд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а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90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35,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2"/>
          <p:cNvSpPr/>
          <p:nvPr/>
        </p:nvSpPr>
        <p:spPr>
          <a:xfrm>
            <a:off x="5377680" y="2712960"/>
            <a:ext cx="2462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должительность Б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а 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./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./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4"/>
          <p:cNvSpPr/>
          <p:nvPr/>
        </p:nvSpPr>
        <p:spPr>
          <a:xfrm>
            <a:off x="7038000" y="5661000"/>
            <a:ext cx="198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валид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е + 8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е + 59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"/>
          <p:cNvSpPr/>
          <p:nvPr/>
        </p:nvSpPr>
        <p:spPr>
          <a:xfrm>
            <a:off x="8427600" y="49514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,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434160" y="14828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6"/>
          <p:cNvSpPr/>
          <p:nvPr/>
        </p:nvSpPr>
        <p:spPr>
          <a:xfrm>
            <a:off x="3418200" y="151920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,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7"/>
          <p:cNvSpPr/>
          <p:nvPr/>
        </p:nvSpPr>
        <p:spPr>
          <a:xfrm>
            <a:off x="3447720" y="26557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,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8"/>
          <p:cNvSpPr/>
          <p:nvPr/>
        </p:nvSpPr>
        <p:spPr>
          <a:xfrm>
            <a:off x="5439600" y="5291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20"/>
          <p:cNvSpPr/>
          <p:nvPr/>
        </p:nvSpPr>
        <p:spPr>
          <a:xfrm>
            <a:off x="8415000" y="442584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1"/>
          <p:cNvSpPr/>
          <p:nvPr/>
        </p:nvSpPr>
        <p:spPr>
          <a:xfrm>
            <a:off x="403920" y="47498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2"/>
          <p:cNvSpPr/>
          <p:nvPr/>
        </p:nvSpPr>
        <p:spPr>
          <a:xfrm>
            <a:off x="3447720" y="45799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,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3"/>
          <p:cNvSpPr/>
          <p:nvPr/>
        </p:nvSpPr>
        <p:spPr>
          <a:xfrm>
            <a:off x="3457440" y="572616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4"/>
          <p:cNvSpPr/>
          <p:nvPr/>
        </p:nvSpPr>
        <p:spPr>
          <a:xfrm>
            <a:off x="437040" y="349740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До К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5"/>
          <p:cNvSpPr/>
          <p:nvPr/>
        </p:nvSpPr>
        <p:spPr>
          <a:xfrm>
            <a:off x="1978920" y="349740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6"/>
          <p:cNvSpPr/>
          <p:nvPr/>
        </p:nvSpPr>
        <p:spPr>
          <a:xfrm>
            <a:off x="3404520" y="349740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2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7"/>
          <p:cNvSpPr/>
          <p:nvPr/>
        </p:nvSpPr>
        <p:spPr>
          <a:xfrm>
            <a:off x="388440" y="638172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До К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8"/>
          <p:cNvSpPr/>
          <p:nvPr/>
        </p:nvSpPr>
        <p:spPr>
          <a:xfrm>
            <a:off x="1953360" y="638172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9"/>
          <p:cNvSpPr/>
          <p:nvPr/>
        </p:nvSpPr>
        <p:spPr>
          <a:xfrm>
            <a:off x="6947640" y="647208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0"/>
          <p:cNvSpPr/>
          <p:nvPr/>
        </p:nvSpPr>
        <p:spPr>
          <a:xfrm>
            <a:off x="6947640" y="359712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31"/>
          <p:cNvSpPr/>
          <p:nvPr/>
        </p:nvSpPr>
        <p:spPr>
          <a:xfrm>
            <a:off x="3480480" y="638172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2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32"/>
          <p:cNvSpPr/>
          <p:nvPr/>
        </p:nvSpPr>
        <p:spPr>
          <a:xfrm>
            <a:off x="8316000" y="359568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2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33"/>
          <p:cNvSpPr/>
          <p:nvPr/>
        </p:nvSpPr>
        <p:spPr>
          <a:xfrm>
            <a:off x="8402040" y="646416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2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34"/>
          <p:cNvSpPr/>
          <p:nvPr/>
        </p:nvSpPr>
        <p:spPr>
          <a:xfrm>
            <a:off x="5372640" y="359100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До К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5"/>
          <p:cNvSpPr/>
          <p:nvPr/>
        </p:nvSpPr>
        <p:spPr>
          <a:xfrm>
            <a:off x="5372640" y="647208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До К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36"/>
          <p:cNvSpPr/>
          <p:nvPr/>
        </p:nvSpPr>
        <p:spPr>
          <a:xfrm>
            <a:off x="8320680" y="325296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37"/>
          <p:cNvSpPr/>
          <p:nvPr/>
        </p:nvSpPr>
        <p:spPr>
          <a:xfrm>
            <a:off x="8373600" y="15494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38"/>
          <p:cNvSpPr/>
          <p:nvPr/>
        </p:nvSpPr>
        <p:spPr>
          <a:xfrm>
            <a:off x="3142080" y="206064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.–6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39"/>
          <p:cNvSpPr/>
          <p:nvPr/>
        </p:nvSpPr>
        <p:spPr>
          <a:xfrm>
            <a:off x="5365800" y="5273640"/>
            <a:ext cx="806400" cy="4050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40"/>
          <p:cNvSpPr/>
          <p:nvPr/>
        </p:nvSpPr>
        <p:spPr>
          <a:xfrm>
            <a:off x="8340840" y="4425840"/>
            <a:ext cx="806400" cy="8478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1989000"/>
          <a:ext cx="4398840" cy="31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9000"/>
                    <a:ext cx="4398840" cy="31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6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имущества этапной системы К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 рамках одного цент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на примере операций на открытом сердц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"/>
          <p:cNvSpPr/>
          <p:nvPr/>
        </p:nvSpPr>
        <p:spPr>
          <a:xfrm>
            <a:off x="468360" y="4724280"/>
            <a:ext cx="16556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1-этапна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система (2008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3">
            <a:alphaModFix amt="88000"/>
          </a:blip>
          <a:stretch/>
        </p:blipFill>
        <p:spPr>
          <a:xfrm>
            <a:off x="0" y="0"/>
            <a:ext cx="1238400" cy="1341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2411280" y="4724280"/>
            <a:ext cx="1452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2-этапная система (2011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2484360" y="2276640"/>
            <a:ext cx="21589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1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-12,4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тыс.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ру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4788000" y="4724280"/>
            <a:ext cx="19447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этапна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08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6732720" y="4724280"/>
            <a:ext cx="17269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этапная система (2011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4427640" y="1484280"/>
            <a:ext cx="194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исло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0" y="1413000"/>
            <a:ext cx="194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с. р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1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00720" y="6066000"/>
            <a:ext cx="464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инамика числа опера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250920" y="6066000"/>
            <a:ext cx="43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атраты на леч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427640" y="2124000"/>
          <a:ext cx="4398840" cy="310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2124000"/>
                    <a:ext cx="4398840" cy="31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14"/>
          <p:cNvSpPr/>
          <p:nvPr/>
        </p:nvSpPr>
        <p:spPr>
          <a:xfrm>
            <a:off x="5580000" y="2997360"/>
            <a:ext cx="9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7020000" y="2133720"/>
            <a:ext cx="934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20520"/>
            <a:ext cx="9144000" cy="712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ая эффективность програм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билитации и вторичной профилактики: анализ «затраты-эффектив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Объект 4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262116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9"/>
          <p:cNvSpPr/>
          <p:nvPr/>
        </p:nvSpPr>
        <p:spPr>
          <a:xfrm>
            <a:off x="6536880" y="6188040"/>
            <a:ext cx="144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3"/>
          <p:cNvSpPr/>
          <p:nvPr/>
        </p:nvSpPr>
        <p:spPr>
          <a:xfrm>
            <a:off x="1044000" y="2852640"/>
            <a:ext cx="79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Объект 4" descr=""/>
          <p:cNvPicPr/>
          <p:nvPr/>
        </p:nvPicPr>
        <p:blipFill>
          <a:blip r:embed="rId2"/>
          <a:stretch/>
        </p:blipFill>
        <p:spPr>
          <a:xfrm>
            <a:off x="0" y="4076640"/>
            <a:ext cx="9177480" cy="219708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5"/>
          <p:cNvSpPr/>
          <p:nvPr/>
        </p:nvSpPr>
        <p:spPr>
          <a:xfrm>
            <a:off x="2099880" y="1095480"/>
            <a:ext cx="192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Зкр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,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6"/>
          <p:cNvSpPr/>
          <p:nvPr/>
        </p:nvSpPr>
        <p:spPr>
          <a:xfrm>
            <a:off x="5949000" y="1084320"/>
            <a:ext cx="192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1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Зкр</a:t>
            </a:r>
            <a:r>
              <a:rPr b="1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8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5"/>
          <p:cNvSpPr/>
          <p:nvPr/>
        </p:nvSpPr>
        <p:spPr>
          <a:xfrm>
            <a:off x="0" y="39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ый экономический эффект К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1779480" y="2674800"/>
            <a:ext cx="582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0"/>
          <p:cNvSpPr/>
          <p:nvPr/>
        </p:nvSpPr>
        <p:spPr>
          <a:xfrm>
            <a:off x="5695920" y="2655720"/>
            <a:ext cx="582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1"/>
          <p:cNvSpPr/>
          <p:nvPr/>
        </p:nvSpPr>
        <p:spPr>
          <a:xfrm>
            <a:off x="3140280" y="2205000"/>
            <a:ext cx="67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2"/>
          <p:cNvSpPr/>
          <p:nvPr/>
        </p:nvSpPr>
        <p:spPr>
          <a:xfrm>
            <a:off x="7027920" y="2133720"/>
            <a:ext cx="67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кр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3"/>
          <p:cNvSpPr/>
          <p:nvPr/>
        </p:nvSpPr>
        <p:spPr>
          <a:xfrm>
            <a:off x="1627200" y="63216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4"/>
          <p:cNvSpPr/>
          <p:nvPr/>
        </p:nvSpPr>
        <p:spPr>
          <a:xfrm>
            <a:off x="4181760" y="63216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5"/>
          <p:cNvSpPr/>
          <p:nvPr/>
        </p:nvSpPr>
        <p:spPr>
          <a:xfrm>
            <a:off x="2160" y="836640"/>
            <a:ext cx="103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Тыс.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на 1 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в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6"/>
          <p:cNvSpPr/>
          <p:nvPr/>
        </p:nvSpPr>
        <p:spPr>
          <a:xfrm>
            <a:off x="5004720" y="2781360"/>
            <a:ext cx="79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7"/>
          <p:cNvSpPr/>
          <p:nvPr/>
        </p:nvSpPr>
        <p:spPr>
          <a:xfrm>
            <a:off x="-36720" y="3714840"/>
            <a:ext cx="103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Тыс.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на 1 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9280" y="3284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 – эконом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 – затра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КР – кардиореабилитац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8920" y="3789000"/>
            <a:ext cx="4032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Анализ экономической эффективности КР больных после КШ: минимизация затрат,</a:t>
            </a:r>
            <a:br>
              <a:rPr sz="2600"/>
            </a:b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моделиро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50920" y="115920"/>
          <a:ext cx="8686800" cy="3471840"/>
        </p:xfrm>
        <a:graphic>
          <a:graphicData uri="http://schemas.openxmlformats.org/drawingml/2006/table">
            <a:tbl>
              <a:tblPr/>
              <a:tblGrid>
                <a:gridCol w="1139760"/>
                <a:gridCol w="1708200"/>
                <a:gridCol w="1851120"/>
                <a:gridCol w="1566720"/>
                <a:gridCol w="24210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после К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без КШ,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после КШ, руб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я затрат,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год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астающим итог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 66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 5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 90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 90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 58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 5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 0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89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 49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75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73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8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(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окуп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 75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 40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 34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 19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 76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 69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7020000" y="3789360"/>
            <a:ext cx="143964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04000" y="2565360"/>
            <a:ext cx="1873440" cy="576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140360" y="3141720"/>
          <a:ext cx="500364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3141720"/>
                    <a:ext cx="500364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5581440" y="35002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10160" y="479736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24720" y="3429000"/>
            <a:ext cx="0" cy="34290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4581360"/>
            <a:ext cx="41403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22560" y="630864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Экономия зат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236720" y="5950080"/>
            <a:ext cx="9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у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3573000"/>
            <a:ext cx="40672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Анализ экономической эффективности КР больных после КШ: минимизация затрат,</a:t>
            </a:r>
            <a:br>
              <a:rPr sz="2600"/>
            </a:b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моделирование </a:t>
            </a:r>
            <a:br>
              <a:rPr sz="2600"/>
            </a:b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КР (-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24000" y="189000"/>
          <a:ext cx="8642160" cy="3195720"/>
        </p:xfrm>
        <a:graphic>
          <a:graphicData uri="http://schemas.openxmlformats.org/drawingml/2006/table">
            <a:tbl>
              <a:tblPr/>
              <a:tblGrid>
                <a:gridCol w="998280"/>
                <a:gridCol w="1644840"/>
                <a:gridCol w="1787400"/>
                <a:gridCol w="1711440"/>
                <a:gridCol w="25002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после К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без КШ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после КШ,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я затрат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го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астающим итог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 03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 71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 68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 68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 04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 34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0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 98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 28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 86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7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 56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6 15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 04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8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 44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 09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7 33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3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 06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6 59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2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21,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 68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995640" y="3251160"/>
          <a:ext cx="514836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3251160"/>
                    <a:ext cx="514836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5003640" y="4581360"/>
            <a:ext cx="41403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10160" y="479736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68720" y="3429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09440" y="587700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Э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облемы, связанные с практическим внедрением программ амбулаторной реабилитации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сложные проблемы внедрения простых програм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достаточная подготовленность вра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ые причины (визит диспансерно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блюдения занимает в среднем 30 м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абое «среднее» зв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зкая приверженность бо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Возможные решени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готовка врачей и медсестер (циклы ПК) на базе центров, обладающих соответствующим опы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ение интерактивной электронной карты диспансерного уч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повышения приверженности больных нужны государственные 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 визита динамического наблю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 (С)  Опрос, анамнез, знакомство с медицинск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ументацией, дневником самонаблюд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 (С) Физикальное обследование, взвешивание, ИМ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 (С) Оценка комплаентности (медикаменты, ФА, ди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контроль пульса, давления, веса, вопрос 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усе курения должен быть задан на кажд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и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0920" y="347976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записи визита динамического наблюдения должно быть отраже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инический статус: стабильный/нестаб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намика ТФ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личие и ФК стенокар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личие и ФК Х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личие арит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намика факторов риска (ФА, статус курения, диета, вес, ИМТ), соблюдение рекоменд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 визита динамического наблю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5092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Ib (С) Оценка психоэмоционального стату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результатов обследования (ес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ялос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 (С)    Оценка адекватнос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ффективности и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опасности (побочных эффектов) тера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ция терапии (при необходим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(A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о-обучающе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ение обследования (при необходим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даты и содержания следующе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ь впервые назначенной или измененн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апии – в течение 1 м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Рекомендации должны быть понятным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конкретными и письменны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деральный закон Российской Федерац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21 ноября 2011 г. N 323-ФЗ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 основах охраны здоровья граждан 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ава 4. Права и обязанности граждан в сфере охраны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тья 27. Обязанности граждан в сфере охраны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раждане обязан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ботитьс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 сохранении своего здоровь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"/>
          <p:cNvSpPr/>
          <p:nvPr/>
        </p:nvSpPr>
        <p:spPr>
          <a:xfrm>
            <a:off x="1763640" y="3357720"/>
            <a:ext cx="3384720" cy="647640"/>
          </a:xfrm>
          <a:prstGeom prst="ellipse">
            <a:avLst/>
          </a:prstGeom>
          <a:noFill/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1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2430360" cy="2853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55640" y="3284280"/>
            <a:ext cx="3313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5580000" y="0"/>
            <a:ext cx="3564000" cy="29034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3"/>
          <a:stretch/>
        </p:blipFill>
        <p:spPr>
          <a:xfrm>
            <a:off x="2195640" y="5033880"/>
            <a:ext cx="3276360" cy="1824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"/>
          <p:cNvPicPr/>
          <p:nvPr/>
        </p:nvPicPr>
        <p:blipFill>
          <a:blip r:embed="rId4"/>
          <a:stretch/>
        </p:blipFill>
        <p:spPr>
          <a:xfrm>
            <a:off x="0" y="5553000"/>
            <a:ext cx="1366920" cy="1305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5"/>
          <a:stretch/>
        </p:blipFill>
        <p:spPr>
          <a:xfrm>
            <a:off x="7451640" y="2637000"/>
            <a:ext cx="1144800" cy="1207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"/>
          <p:cNvPicPr/>
          <p:nvPr/>
        </p:nvPicPr>
        <p:blipFill>
          <a:blip r:embed="rId6"/>
          <a:stretch/>
        </p:blipFill>
        <p:spPr>
          <a:xfrm>
            <a:off x="5867280" y="4160880"/>
            <a:ext cx="3276720" cy="2697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"/>
          <p:cNvPicPr/>
          <p:nvPr/>
        </p:nvPicPr>
        <p:blipFill>
          <a:blip r:embed="rId7"/>
          <a:stretch/>
        </p:blipFill>
        <p:spPr>
          <a:xfrm>
            <a:off x="5651640" y="2276640"/>
            <a:ext cx="1401480" cy="1511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"/>
          <p:cNvPicPr/>
          <p:nvPr/>
        </p:nvPicPr>
        <p:blipFill>
          <a:blip r:embed="rId8"/>
          <a:stretch/>
        </p:blipFill>
        <p:spPr>
          <a:xfrm>
            <a:off x="0" y="0"/>
            <a:ext cx="2951280" cy="2305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"/>
          <p:cNvPicPr/>
          <p:nvPr/>
        </p:nvPicPr>
        <p:blipFill>
          <a:blip r:embed="rId9"/>
          <a:stretch/>
        </p:blipFill>
        <p:spPr>
          <a:xfrm>
            <a:off x="3059280" y="260280"/>
            <a:ext cx="244944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лияние характера раннего (1 мес.) постстационарного наблюдения на прогноз больных ИБС в течение 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66560" y="6237360"/>
            <a:ext cx="7777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zarnecki A, et a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ociation Between Physician Follow Up and Outcome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 After Chest Pain Assessment in High-Risk Patients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irculation,  201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843280" y="692280"/>
          <a:ext cx="6300720" cy="28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692280"/>
                    <a:ext cx="630072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2700360" y="3429000"/>
          <a:ext cx="644364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429000"/>
                    <a:ext cx="64436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0" y="765000"/>
            <a:ext cx="34196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56 7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. возр. – 66 лет, м. – 5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Д – 36%, ИМ в анамн.- 2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КВ или КШ в анамн.- 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276640"/>
            <a:ext cx="266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боль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мотр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течение 1 меся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выпи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03640" y="321300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рдиоло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5280" y="321300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апев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79600" y="32130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были у вр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41440" y="20606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741800" y="16286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49440" y="8366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2360" y="41497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436720" y="364500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,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20720" y="357336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,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1840" y="4365720"/>
            <a:ext cx="273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+смерть от вс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 в теч.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выпис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% бо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00720" y="4724280"/>
            <a:ext cx="1366560" cy="505080"/>
          </a:xfrm>
          <a:prstGeom prst="leftRightArrow">
            <a:avLst>
              <a:gd name="adj1" fmla="val 50000"/>
              <a:gd name="adj2" fmla="val 53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16360" y="4797360"/>
            <a:ext cx="9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00720" y="5229360"/>
            <a:ext cx="3024000" cy="504720"/>
          </a:xfrm>
          <a:prstGeom prst="leftRightArrow">
            <a:avLst>
              <a:gd name="adj1" fmla="val 50000"/>
              <a:gd name="adj2" fmla="val 1192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5300640"/>
            <a:ext cx="9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хема движения больных после К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ер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деление реанимации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тенсивной терап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этап - кардиохирургическо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деление (ср.-7,4 койко-дн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 этап - лечебно-реабилитационный корпу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диологическое отделение с восстановительным лечением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(ср.-13,6 к.-дн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мбулаторный эта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1125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2349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3573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5229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>
            <a:alphaModFix amt="88000"/>
          </a:blip>
          <a:stretch/>
        </p:blipFill>
        <p:spPr>
          <a:xfrm>
            <a:off x="0" y="0"/>
            <a:ext cx="70632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00" y="1548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tIns="28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стационарного этапа К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549360"/>
          <a:ext cx="9144000" cy="6308280"/>
        </p:xfrm>
        <a:graphic>
          <a:graphicData uri="http://schemas.openxmlformats.org/drawingml/2006/table">
            <a:tbl>
              <a:tblPr/>
              <a:tblGrid>
                <a:gridCol w="5353200"/>
                <a:gridCol w="1338120"/>
                <a:gridCol w="1338120"/>
                <a:gridCol w="1114560"/>
              </a:tblGrid>
              <a:tr h="39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ериоперационные осло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СН с инотропной поддержкой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ибрилляция предсердий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8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Гемоперикард и рестернотомия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7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Желудочковые нарушения ритма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нфаркт миокарда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тип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8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нсульт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9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ТЭ мелких ветвей легочной артерии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9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стперикардиотомный синдром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требовавший назначения ГКС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9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Замедленное заживление ран с наложением вторичных швов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2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ктивные очаги инфекции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ериферические нейропатии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Всего больных с периоперационными осложнениями,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9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1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0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имущества этапной системы К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ах одного цент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на примере операций на открытом сердц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"/>
          <p:cNvSpPr/>
          <p:nvPr/>
        </p:nvSpPr>
        <p:spPr>
          <a:xfrm>
            <a:off x="611280" y="5013360"/>
            <a:ext cx="16556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1-этапна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система (2008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2"/>
          <p:cNvGrpSpPr/>
          <p:nvPr/>
        </p:nvGrpSpPr>
        <p:grpSpPr>
          <a:xfrm>
            <a:off x="324000" y="1916280"/>
            <a:ext cx="4168800" cy="3519360"/>
            <a:chOff x="324000" y="1916280"/>
            <a:chExt cx="4168800" cy="3519360"/>
          </a:xfrm>
        </p:grpSpPr>
        <p:pic>
          <p:nvPicPr>
            <p:cNvPr id="333" name="Picture 3" descr=""/>
            <p:cNvPicPr/>
            <p:nvPr/>
          </p:nvPicPr>
          <p:blipFill>
            <a:blip r:embed="rId1"/>
            <a:stretch/>
          </p:blipFill>
          <p:spPr>
            <a:xfrm>
              <a:off x="324000" y="1916280"/>
              <a:ext cx="4168800" cy="35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4"/>
            <p:cNvSpPr/>
            <p:nvPr/>
          </p:nvSpPr>
          <p:spPr>
            <a:xfrm>
              <a:off x="324000" y="1916280"/>
              <a:ext cx="4168800" cy="35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105264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7"/>
          <p:cNvSpPr/>
          <p:nvPr/>
        </p:nvSpPr>
        <p:spPr>
          <a:xfrm>
            <a:off x="2627280" y="5084640"/>
            <a:ext cx="1452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2-этапная система (2012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2771640" y="2349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-12,4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11"/>
          <p:cNvGrpSpPr/>
          <p:nvPr/>
        </p:nvGrpSpPr>
        <p:grpSpPr>
          <a:xfrm>
            <a:off x="4500720" y="1700280"/>
            <a:ext cx="4381200" cy="3736800"/>
            <a:chOff x="4500720" y="1700280"/>
            <a:chExt cx="4381200" cy="3736800"/>
          </a:xfrm>
        </p:grpSpPr>
        <p:pic>
          <p:nvPicPr>
            <p:cNvPr id="339" name="Picture 12" descr=""/>
            <p:cNvPicPr/>
            <p:nvPr/>
          </p:nvPicPr>
          <p:blipFill>
            <a:blip r:embed="rId3"/>
            <a:stretch/>
          </p:blipFill>
          <p:spPr>
            <a:xfrm>
              <a:off x="4500720" y="1700280"/>
              <a:ext cx="438120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13"/>
            <p:cNvSpPr/>
            <p:nvPr/>
          </p:nvSpPr>
          <p:spPr>
            <a:xfrm>
              <a:off x="4500720" y="1700280"/>
              <a:ext cx="4381200" cy="37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14"/>
          <p:cNvSpPr/>
          <p:nvPr/>
        </p:nvSpPr>
        <p:spPr>
          <a:xfrm>
            <a:off x="4932360" y="501336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этапна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а (2008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6732720" y="5084640"/>
            <a:ext cx="172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этапная система (2012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4427640" y="1484280"/>
            <a:ext cx="194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исло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0" y="155736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с. р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1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4788000" y="6066000"/>
            <a:ext cx="43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намика числа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250920" y="6066000"/>
            <a:ext cx="43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траты на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ный (замкнутый) цикл оказания ВМ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16360" y="2060640"/>
            <a:ext cx="2089080" cy="1944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52000" y="1557360"/>
            <a:ext cx="253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1. Поликли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Цен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19240" y="2349360"/>
            <a:ext cx="181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тацио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14160" y="3789360"/>
            <a:ext cx="181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ан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1989000"/>
            <a:ext cx="287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724000" y="2060640"/>
            <a:ext cx="287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443280" y="35002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6443640" y="364500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642920" y="3068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716360" y="3068640"/>
            <a:ext cx="14472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65800" y="2781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М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484000" y="26370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84360" y="256536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9280" y="2421000"/>
            <a:ext cx="299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икли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 мес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08360" y="1125360"/>
            <a:ext cx="4176720" cy="3959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3779640" y="2636640"/>
            <a:ext cx="936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708360" y="2276640"/>
            <a:ext cx="1368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25800" y="551664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Федеральный 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35280" y="981000"/>
            <a:ext cx="4753080" cy="52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981000"/>
            <a:ext cx="2305080" cy="52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1773360"/>
          <a:ext cx="88200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8200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6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имущества этапной системы К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 рамках одного цент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на примере операций на открытом сердц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3">
            <a:alphaModFix amt="88000"/>
          </a:blip>
          <a:stretch/>
        </p:blipFill>
        <p:spPr>
          <a:xfrm>
            <a:off x="0" y="0"/>
            <a:ext cx="1171440" cy="1268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4"/>
          <p:cNvSpPr/>
          <p:nvPr/>
        </p:nvSpPr>
        <p:spPr>
          <a:xfrm>
            <a:off x="0" y="1341360"/>
            <a:ext cx="27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с. руб. на 1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0" y="5084640"/>
            <a:ext cx="27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н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.А.Алмаз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"/>
          <p:cNvSpPr/>
          <p:nvPr/>
        </p:nvSpPr>
        <p:spPr>
          <a:xfrm>
            <a:off x="2195640" y="5084640"/>
            <a:ext cx="28080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б.отд.(стац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наторная реа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"/>
          <p:cNvSpPr/>
          <p:nvPr/>
        </p:nvSpPr>
        <p:spPr>
          <a:xfrm>
            <a:off x="5292720" y="5084640"/>
            <a:ext cx="3311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реаб.отд.(стац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санаторная реа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79640" y="6165720"/>
            <a:ext cx="755640" cy="476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0" y="5950080"/>
            <a:ext cx="2050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ло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2700360" y="6137280"/>
            <a:ext cx="1079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2,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6165720"/>
            <a:ext cx="755640" cy="47628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4788000" y="6165720"/>
            <a:ext cx="107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0,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ная преемственность этап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озможность применения интенсивных программ реабил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дивидуализация сроков восстановительного лечения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es not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t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кращение средней продолжительности восстановительного леч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нижение стоимости стационарного этапа реабил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ез снижения эффектив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ез увеличения числа осложн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кращение сроков оказания помощи при развитии осложн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имущества этапной системы К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 рамках одного цент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на примере операций на открытом сердц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>
            <a:alphaModFix amt="88000"/>
          </a:blip>
          <a:stretch/>
        </p:blipFill>
        <p:spPr>
          <a:xfrm>
            <a:off x="0" y="0"/>
            <a:ext cx="12384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тимизация схемы движения бо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ер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деление реанимации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тенсивной терап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ардиохирургическо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деление (ср.-7,4 койко-дн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ечебно-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анаторн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абилитационный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абилитационны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рпус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рпу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(ср.-13,6 к.-дн.)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(ср.-13,6 к.-дн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мбулаторный эта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112536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0720" y="2205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48000" y="3429000"/>
            <a:ext cx="11527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571640" y="5661000"/>
            <a:ext cx="1079640" cy="57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342900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0" y="5661000"/>
            <a:ext cx="115272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>
            <a:alphaModFix amt="88000"/>
          </a:blip>
          <a:stretch/>
        </p:blipFill>
        <p:spPr>
          <a:xfrm>
            <a:off x="0" y="0"/>
            <a:ext cx="70632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3240" y="1197000"/>
          <a:ext cx="5900760" cy="53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3240" y="1197000"/>
                    <a:ext cx="590076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50920" y="2133720"/>
            <a:ext cx="230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кли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мес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6200" y="2852640"/>
            <a:ext cx="20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поликлин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н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88720" y="1557360"/>
            <a:ext cx="9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7440" y="220500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А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99640" y="1819440"/>
            <a:ext cx="136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ХО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 (ОИ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11280" y="2852640"/>
            <a:ext cx="136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339640" y="32846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700280"/>
            <a:ext cx="2233440" cy="36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7120" y="4508640"/>
            <a:ext cx="318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билитационное от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атор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билитацио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1125360"/>
            <a:ext cx="432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24360" y="1268280"/>
            <a:ext cx="360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44000" y="1916280"/>
            <a:ext cx="14436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56720" y="2205000"/>
            <a:ext cx="431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924360" y="2060640"/>
            <a:ext cx="360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40360" y="2060280"/>
            <a:ext cx="144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тимизация схемы движения больных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олный (замкнутый) цикл оказания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419280" y="3789360"/>
            <a:ext cx="144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3860640"/>
            <a:ext cx="14436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1125360"/>
            <a:ext cx="5473440" cy="547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8160" y="357336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3">
            <a:alphaModFix amt="88000"/>
          </a:blip>
          <a:stretch/>
        </p:blipFill>
        <p:spPr>
          <a:xfrm>
            <a:off x="0" y="0"/>
            <a:ext cx="906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Основные элементы программы КР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964720" cy="64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1. Адекватная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медикаментозная терап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Физическая реабилит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- на стационарном этапе: ЛФК, дозированная ходьба, подъемы по лестнице, тренажерные тренировк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- на постстационарном этапе: индивидуальные рекомендации по физ. активности и физ. тренировкам (утренняя гимнастика, дозированная ходьба, контролируемые и/или частично-контролируемые тренажерные тренировк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3. Индивидуализированные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рекомендации по коррекции факторов риска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(питание, ФА, курение,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Психосоциальное консультиров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Реализация образовательной программы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для пациентов (групповые и индивидуальные информационно-обучающие занят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ое наблюдени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(плановые визиты через 1, 6, 12 мес. после КШ, промежуточные телефонные/интернет-контакты, при необходимости – внеплановые визиты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omprehensiv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R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разовательная програм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rcise-based cardiac rehabilitatio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рограмма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физических тренирово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 Factor Modificatio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рограмма модификации Ф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 Manageme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Diet-ExT-MT(S)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ета-ФТ-ОМТ(ГЛ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[Diet-ExT-MT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ета-ФТ-ОМТ(ГЛТ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bete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[Diet-ExT-MT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ета-ФТ-ОМТ(ГЛТ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Activit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[ExT-daily Phys.Act.]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Т-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ght Managemen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Diet-PhA-self-control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оконт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oking Cess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Psy-Edu-MT-ExT]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+психолог.помощ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ychological supp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grams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otivational Interviewi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(программа психологической поддерж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l Therapy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птимальная медикаментозная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ерап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 Follow-up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инамическое наблюд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7T09:20:55Z</dcterms:created>
  <dc:creator>Елена</dc:creator>
  <dc:description/>
  <dc:language>en-US</dc:language>
  <cp:lastModifiedBy>Елена</cp:lastModifiedBy>
  <dcterms:modified xsi:type="dcterms:W3CDTF">2014-10-19T06:34:09Z</dcterms:modified>
  <cp:revision>4</cp:revision>
  <dc:subject/>
  <dc:title>Преимущества перехода на 2-х этапную систему оказания</dc:title>
</cp:coreProperties>
</file>